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3E22-C87E-41BF-A9AE-75D9F3F310B1}" type="datetime">
              <a:rPr b="1" lang="pl-PL" sz="1200" spc="-1" strike="noStrike">
                <a:solidFill>
                  <a:srgbClr val="000000"/>
                </a:solidFill>
                <a:latin typeface="Comic Sans MS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BC1D-6551-4473-916D-343B44B10043}" type="slidenum">
              <a:rPr b="1" lang="pl-PL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Średnie wynagrodzenie nauczycie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żystów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9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7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7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28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ntraktowyc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2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9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2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3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anowanyc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68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144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127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6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1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plomowanyc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486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895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96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63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gół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3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8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4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26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óżnice między przeciętnym wynagrodzeniem na wsi i w mieście wg stopni awans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jwyższe wynagrodzenie uzyskują stażystki w przedszkolach - 1100 zł; najniższe w szkołach podstawowych bo 806 zł, co daje różnicę w wysokości aż 428 z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uczyciele kontraktowi najlepiej są opłacani w szkołach zawodowych - 1533 zł, najgorzej zaś w przedszkolach - 1229 zł (różnica 304 zł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uczyciele mianowani to w przedszkolach 1768, a w zespołach placówek 2323 z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plomowani to rozpiętość między 2486 zł w przedszkolach a 3069 w szkołach zawodowy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a zarobkó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9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0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84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6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05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78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Średnie zarobk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3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8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4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26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25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48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óżnice net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4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74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7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6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70 3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zej dla potrzeby przyczynkarskiej odnotować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jwyższ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ypłacane wynagrodzenie w poszczególnych stopniach awans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żysta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250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ntraktowy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987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anowany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463 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plomowany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364 z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Średni koszt kształcenia we wszystkich placówkach wyniósł w 2003 roku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75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złote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 tego 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zedszkolach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8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zkołach podstawowy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mnazja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8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ceach ogólnokształcący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3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zkołach zawodowy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4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czba uczniów przypadających na jednego nauczyciela wynosiła średnio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,1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zy czym 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zedszkolac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,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zkołach podstawowy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mnazja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,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ceach ogólnokształcący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zkołach zawodowy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,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czba pracowników niepedagogicznych na 100 uczniów wynosiła średnio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,7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rzy czy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zedszkolac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,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zkołach podstawowy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mnazja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ceach ogólnokształcący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zkołach zawodowy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niżył się dość wyraźnie udział wydatków płacowych w wydatkach ogółem i wyniósł w roku 2003 przeciętni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,79%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zy czy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 mieśc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,3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 ws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6,1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 poszczególnych typach placówek udział ten wynosił 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zedszkolac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2,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zkołach podstawowy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8,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mnazja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,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ceach ogólnokształcący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3,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zkołach zawodowy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,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cję taką można znaleźć na witrynie Ministerstwa Edukacj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jd ilustruje rozbieżność między deklarowaną przez ministerstwo wysokością przeciętnego wynagrodzenia nauczycieli a wynagrodzeniem osiągniętym realni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C536-E3DA-4DDB-8DBC-689552905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6DBE-2DD2-48E3-AF68-61E9D532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317B-23DF-4E27-9078-B205A9147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9D27-317E-4044-82EF-6D9003EE2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12BB-E4A4-4E1A-A576-5A208CC4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F121-3778-41B0-A713-907D883B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6E09-86E8-4194-A576-D143F0E7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C53A-DCBD-40B0-83C0-BE492217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D378-EF2A-4837-BC11-9FC6BEBC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8C8C-B0A8-417C-9FE9-2269118F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F124-88A0-4CFA-8F3F-574542C8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0F4A-E9B3-4E4C-B098-3A5102FE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7936-8A36-4C2B-87C9-74FB420C17F6}" type="datetime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09A0-71C1-4019-9E0C-1EDEE3E7961B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tr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429000" y="3200040"/>
            <a:ext cx="5410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Instyt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Bada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w Oświaci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prezentuj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324480"/>
            <a:ext cx="1828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BF39-0256-4761-BB06-EFC51A1B0DF2}" type="datetime3">
              <a:rPr b="0" lang="pl-PL" sz="1400" spc="-1" strike="noStrike">
                <a:solidFill>
                  <a:srgbClr val="000000"/>
                </a:solidFill>
                <a:latin typeface="Tahoma"/>
              </a:rPr>
              <a:t>31 lipca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5C5B-95CB-4C0C-AAEB-07DA0CEE134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str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01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6324480"/>
            <a:ext cx="1828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50C7-95A3-4182-8875-947CCF41B310}" type="datetime3">
              <a:rPr b="0" lang="pl-PL" sz="1400" spc="-1" strike="noStrike">
                <a:solidFill>
                  <a:srgbClr val="000000"/>
                </a:solidFill>
                <a:latin typeface="Tahoma"/>
              </a:rPr>
              <a:t>31 lipca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81120" y="1990800"/>
          <a:ext cx="7866000" cy="409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1120" y="1990800"/>
                    <a:ext cx="7866000" cy="40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Wynagrodzenie wg awansu i typu placów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78C5-57D7-4D1F-9EFA-528015A148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tr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6324480"/>
            <a:ext cx="1828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7A55-3E4B-4061-9519-0D55A0CB4E8B}" type="datetime3">
              <a:rPr b="0" lang="pl-PL" sz="1400" spc="-1" strike="noStrike">
                <a:solidFill>
                  <a:srgbClr val="000000"/>
                </a:solidFill>
                <a:latin typeface="Tahoma"/>
              </a:rPr>
              <a:t>31 lipca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523880" y="1755720"/>
            <a:ext cx="7391520" cy="426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6136-02D4-4116-9661-D5A4AF9852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tr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01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6324480"/>
            <a:ext cx="1828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61E4-6F65-4DCE-96E1-9A842E224BCF}" type="datetime3">
              <a:rPr b="0" lang="pl-PL" sz="1400" spc="-1" strike="noStrike">
                <a:solidFill>
                  <a:srgbClr val="000000"/>
                </a:solidFill>
                <a:latin typeface="Tahoma"/>
              </a:rPr>
              <a:t>31 lipca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1120" y="1676520"/>
          <a:ext cx="8005680" cy="495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1120" y="1676520"/>
                    <a:ext cx="80056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Mediana a średnia wynagrodze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A6D7-CE1C-4768-A4C8-23931D5195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str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6324480"/>
            <a:ext cx="1828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7F59-E12E-4692-941A-7C71CF310751}" type="datetime3">
              <a:rPr b="0" lang="pl-PL" sz="1400" spc="-1" strike="noStrike">
                <a:solidFill>
                  <a:srgbClr val="000000"/>
                </a:solidFill>
                <a:latin typeface="Tahoma"/>
              </a:rPr>
              <a:t>31 lipca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361960" y="5105520"/>
            <a:ext cx="6476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Dziękuję za uwag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712960" y="1752480"/>
            <a:ext cx="3611520" cy="325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AF09-7151-483E-AC9D-3EE158AE6A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tr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429000" y="1904760"/>
            <a:ext cx="5410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Wynagrodzenia nauczycieli w Polsce w roku 200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opr. dr A.Jeżowski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324480"/>
            <a:ext cx="1828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3AD8-FAB7-4A23-A710-0DFC6C970806}" type="datetime3">
              <a:rPr b="0" lang="pl-PL" sz="1400" spc="-1" strike="noStrike">
                <a:solidFill>
                  <a:srgbClr val="000000"/>
                </a:solidFill>
                <a:latin typeface="Tahoma"/>
              </a:rPr>
              <a:t>31 lipca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6204-D1CB-421F-BF08-EBFBC096E8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tr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6324480"/>
            <a:ext cx="1828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DD56-AEC2-48CD-88A5-FF59F28531FD}" type="datetime3">
              <a:rPr b="0" lang="pl-PL" sz="1400" spc="-1" strike="noStrike">
                <a:solidFill>
                  <a:srgbClr val="000000"/>
                </a:solidFill>
                <a:latin typeface="Tahoma"/>
              </a:rPr>
              <a:t>31 lipca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057400" y="15998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101 placówek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9 przedszkol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23 szkoły podstawow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16 gimnazjó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4 licea ogólnokształcą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6 zespołów szkół ogólnokształcąc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20 szkół zawodowych i zespołów szkół zawodowy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23 pozostałe placówki i ich zespoł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67EB-3CB9-43F1-B360-99BAFDC915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tr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6324480"/>
            <a:ext cx="1828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553F-8A4B-4DC5-B85A-5316A7F6BDD1}" type="datetime3">
              <a:rPr b="0" lang="pl-PL" sz="1400" spc="-1" strike="noStrike">
                <a:solidFill>
                  <a:srgbClr val="000000"/>
                </a:solidFill>
                <a:latin typeface="Tahoma"/>
              </a:rPr>
              <a:t>31 lipca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285640" y="1752480"/>
            <a:ext cx="6248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52.668 ucznió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48.458 w mieśc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4.388 na w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4.358 nauczycie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3.950 w mieśc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1.445 innych pracowników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1.292 w mieśc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12EB-2BBC-494A-AA9C-8D7E44DF2E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tr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6324480"/>
            <a:ext cx="1828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AE6A-348E-4A95-8D75-ACD68AA088BE}" type="datetime3">
              <a:rPr b="0" lang="pl-PL" sz="1400" spc="-1" strike="noStrike">
                <a:solidFill>
                  <a:srgbClr val="000000"/>
                </a:solidFill>
                <a:latin typeface="Tahoma"/>
              </a:rPr>
              <a:t>31 lipca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057400" y="2057040"/>
            <a:ext cx="647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Łączne wydatki w placówkach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197.720.654 z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w tym wydatki płacow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159.737.484 z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omic Sans MS"/>
              </a:rPr>
              <a:t>tj. 80.79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842B-CCEB-4B00-A1A3-C42A6126AF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str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01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6324480"/>
            <a:ext cx="1828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240D-054B-41A1-86A9-E5625E695269}" type="datetime3">
              <a:rPr b="0" lang="pl-PL" sz="1400" spc="-1" strike="noStrike">
                <a:solidFill>
                  <a:srgbClr val="000000"/>
                </a:solidFill>
                <a:latin typeface="Tahoma"/>
              </a:rPr>
              <a:t>31 lipca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1120" y="1990800"/>
          <a:ext cx="7829640" cy="4095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1120" y="1990800"/>
                    <a:ext cx="782964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Udział płac w wydatkach ogółem wg typów placów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2775-68F0-43EE-9260-D968F8EFF7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str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6324480"/>
            <a:ext cx="1828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D887-5726-4A9A-B6A5-9E6F650362F1}" type="datetime3">
              <a:rPr b="0" lang="pl-PL" sz="1400" spc="-1" strike="noStrike">
                <a:solidFill>
                  <a:srgbClr val="000000"/>
                </a:solidFill>
                <a:latin typeface="Tahoma"/>
              </a:rPr>
              <a:t>31 lipca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371240" y="20570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Comic Sans MS"/>
              </a:rPr>
              <a:t>Przeciętne wynagrodzenie (wg MENiS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cc"/>
                </a:solidFill>
                <a:latin typeface="Comic Sans MS"/>
              </a:rPr>
              <a:t>w gospodarce narodowej</a:t>
            </a:r>
            <a:r>
              <a:rPr b="1" lang="pl-PL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pl-PL" sz="3200" spc="-1" strike="noStrike">
                <a:solidFill>
                  <a:srgbClr val="cc3300"/>
                </a:solidFill>
                <a:latin typeface="Comic Sans MS"/>
              </a:rPr>
              <a:t>2.2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cc"/>
                </a:solidFill>
                <a:latin typeface="Comic Sans MS"/>
              </a:rPr>
              <a:t>w sektorze przedsiębiorstw</a:t>
            </a:r>
            <a:r>
              <a:rPr b="1" lang="pl-PL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pl-PL" sz="3200" spc="-1" strike="noStrike">
                <a:solidFill>
                  <a:srgbClr val="cc3300"/>
                </a:solidFill>
                <a:latin typeface="Comic Sans MS"/>
              </a:rPr>
              <a:t>2.34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cc"/>
                </a:solidFill>
                <a:latin typeface="Comic Sans MS"/>
              </a:rPr>
              <a:t>w sferze budżetowej</a:t>
            </a:r>
            <a:r>
              <a:rPr b="1" lang="pl-PL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pl-PL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pl-PL" sz="3200" spc="-1" strike="noStrike">
                <a:solidFill>
                  <a:srgbClr val="cc3300"/>
                </a:solidFill>
                <a:latin typeface="Comic Sans MS"/>
              </a:rPr>
              <a:t>2.27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cc"/>
                </a:solidFill>
                <a:latin typeface="Comic Sans MS"/>
              </a:rPr>
              <a:t>nauczycieli</a:t>
            </a:r>
            <a:r>
              <a:rPr b="1" lang="pl-PL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pl-PL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pl-PL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pl-PL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pl-PL" sz="3600" spc="-1" strike="noStrike">
                <a:solidFill>
                  <a:srgbClr val="ff0000"/>
                </a:solidFill>
                <a:latin typeface="Comic Sans MS"/>
              </a:rPr>
              <a:t>2.29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8CF9-F51A-439F-98FB-A7D0294696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str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6324480"/>
            <a:ext cx="1828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4EED-351F-49A4-9550-DAD9FD257D7A}" type="datetime3">
              <a:rPr b="0" lang="pl-PL" sz="1400" spc="-1" strike="noStrike">
                <a:solidFill>
                  <a:srgbClr val="000000"/>
                </a:solidFill>
                <a:latin typeface="Tahoma"/>
              </a:rPr>
              <a:t>31 lipca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138320" y="2362320"/>
            <a:ext cx="7966080" cy="411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FBF5-E4B6-491E-AE70-F264989E79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str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6324480"/>
            <a:ext cx="1828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86DD-D971-4920-8736-713CF9CD755E}" type="datetime3">
              <a:rPr b="0" lang="pl-PL" sz="1400" spc="-1" strike="noStrike">
                <a:solidFill>
                  <a:srgbClr val="000000"/>
                </a:solidFill>
                <a:latin typeface="Tahoma"/>
              </a:rPr>
              <a:t>31 lipca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447920" y="988920"/>
            <a:ext cx="7000920" cy="5591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62A7-ED8B-46B0-ADC2-BED62D7363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17:42:22Z</dcterms:created>
  <dc:creator>Antoni Jeżowski</dc:creator>
  <dc:description/>
  <dc:language>en-US</dc:language>
  <cp:lastModifiedBy>Antoni Jeżowski</cp:lastModifiedBy>
  <dcterms:modified xsi:type="dcterms:W3CDTF">2004-09-25T07:10:23Z</dcterms:modified>
  <cp:revision>14</cp:revision>
  <dc:subject/>
  <dc:title>Bez tytułu slajdu</dc:title>
</cp:coreProperties>
</file>