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F1E-1D95-4DB3-BEA1-9405041898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BA09-A811-4FE1-8D29-19878A010F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A0EF-FED6-4315-A453-39FAF471E6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DD08-61FD-412C-BD72-A94D15A7CC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50F-6FBE-4A4F-83A9-F012C3B911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66B6-3A25-4D83-92A7-B4555AB283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9A5-70A9-4AE9-9B61-781EDFBD9B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C154-0C7A-441F-80FC-9A4FBF9090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01D5-7269-4982-A873-47EE1427C1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07C-09D2-4932-AAD4-127697F6BA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2E8-4982-44ED-AF93-C1A7BB45FB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EFC4-6062-42A4-AC96-8783032FF7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CF07-CE9A-4318-83E1-B0C55D4A99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D355-D8A1-4F03-BF0A-9D2BBC193B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9314-D2D3-437C-9D35-C2A1724654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B30C-1BBF-40D0-9763-FE605786E9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82C9-D13A-4693-A1BD-7111A56600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D8B-5B19-4CF7-96FD-7CC2605ADA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841-9CFE-438F-B91A-4486260957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0290-934E-4E09-A1B4-782BE68254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15C9-A032-4F70-8FCA-91336B7F9C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8E0-3A11-4276-8EDC-F3BEBD8753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0A99-46B3-4C81-BA2A-84B74BBDF2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8B2-C50D-445D-BF66-5759B0FF95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7D6-40FD-4FBB-BB6E-73EFED16D8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627-9D5E-4337-9F46-68712759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623-1A19-40BF-A3D6-CB4529F5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42F-B94B-42BC-B12C-AD4FAF3D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6A1-CD16-48CF-AF4E-78F00E8A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7AF-AEB5-4D13-8801-8E2F493D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A6B-F56C-4AA1-9E22-F93843A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472-6C56-4E30-BC6F-0887DABB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FF0-D572-4DA2-9691-EA540B1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D8F-BA97-46CA-B3B8-BCB18E9D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DA3-82CE-4770-8D88-4791B833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930-2999-4DE5-8EE3-17D511D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604-FE95-4973-BFE8-A3CD71C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396B-0463-4B2B-B953-EE6C58B184E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skko.edu.pl/kongres/material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PLAN%20NADZORU%20_2019N.docx" TargetMode="External"/><Relationship Id="rId2" Type="http://schemas.openxmlformats.org/officeDocument/2006/relationships/hyperlink" Target="http://www.oskko.edu.pl/kongres/materialy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2019_Arkusz%20obserwacji%20lekcji.doc" TargetMode="External"/><Relationship Id="rId2" Type="http://schemas.openxmlformats.org/officeDocument/2006/relationships/hyperlink" Target="file:///obserwacja_XXX.doc" TargetMode="External"/><Relationship Id="rId3" Type="http://schemas.openxmlformats.org/officeDocument/2006/relationships/hyperlink" Target="file:///Karta%20obserwacji%20zadania%20statutowego.doc" TargetMode="External"/><Relationship Id="rId4" Type="http://schemas.openxmlformats.org/officeDocument/2006/relationships/hyperlink" Target="file:///Niepodleg&#322;a_monitorowanie.docx" TargetMode="External"/><Relationship Id="rId5" Type="http://schemas.openxmlformats.org/officeDocument/2006/relationships/hyperlink" Target="file:///Arkusz%20monitorowania%20Pedagog_2017.docx" TargetMode="External"/><Relationship Id="rId6" Type="http://schemas.openxmlformats.org/officeDocument/2006/relationships/hyperlink" Target="http://www.oskko.edu.pl/kongres/materialy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Uchwa&#322;a%20Nr%2010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Wymagania%202019.docx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skko.edu.pl/kongres/materialy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8960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1"/>
          <p:cNvSpPr/>
          <p:nvPr/>
        </p:nvSpPr>
        <p:spPr>
          <a:xfrm>
            <a:off x="0" y="5013360"/>
            <a:ext cx="896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XIV KONGRES ZARZĄDZANIA OŚWIAT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SKKO, Zakopane, 30.09-2.10.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oskko.edu.pl/kong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5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1"/>
          <p:cNvSpPr/>
          <p:nvPr/>
        </p:nvSpPr>
        <p:spPr>
          <a:xfrm>
            <a:off x="684360" y="1197000"/>
            <a:ext cx="81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§ 23.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n nadzoru pedagogicznego zawier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dmiot ewaluacji wewnętrznej oraz termi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j przeprowa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matykę i terminy przeprowadzania kontrol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strzegania przez nauczycieli przepisów prawa dotyczących działalności dydaktycznej, wychowawczej i opiekuńczej oraz innej działalności statutowej szkoły lub placów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kres wspomagania nauczyciel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realizacji ich zadań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n obserw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kres monitorowan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13" name="Prostokąt 1"/>
          <p:cNvSpPr/>
          <p:nvPr/>
        </p:nvSpPr>
        <p:spPr>
          <a:xfrm>
            <a:off x="684360" y="2276640"/>
            <a:ext cx="78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3. 4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rzypadku dokonania zmia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lanie nadzoru, o którym mowa w ust. 1, dyrektor szkoły lub placówki niezwłocznie informuje radę pedagogiczną, a w przypadku szkoły lub placówki, w której nie tworzy się rady pedagogicznej - nauczycieli i osoby niebędące nauczycielami, które realizują zadania statutowe szkoły lub placówki, o wprowadzonych zmian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0" y="842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 należy uwzględnić planując nadzór pedagogicz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pic>
        <p:nvPicPr>
          <p:cNvPr id="119" name="Prostokąt 1" descr=""/>
          <p:cNvPicPr/>
          <p:nvPr/>
        </p:nvPicPr>
        <p:blipFill>
          <a:blip r:embed="rId3"/>
          <a:stretch/>
        </p:blipFill>
        <p:spPr>
          <a:xfrm>
            <a:off x="414360" y="878040"/>
            <a:ext cx="8259840" cy="4833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1"/>
          <p:cNvSpPr/>
          <p:nvPr/>
        </p:nvSpPr>
        <p:spPr>
          <a:xfrm>
            <a:off x="0" y="8424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 należy uwzględnić planując nadzór pedagogicz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pic>
        <p:nvPicPr>
          <p:cNvPr id="125" name="Prostokąt 1" descr=""/>
          <p:cNvPicPr/>
          <p:nvPr/>
        </p:nvPicPr>
        <p:blipFill>
          <a:blip r:embed="rId3"/>
          <a:stretch/>
        </p:blipFill>
        <p:spPr>
          <a:xfrm>
            <a:off x="414360" y="878040"/>
            <a:ext cx="8259840" cy="3511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ole tekstowe 11"/>
          <p:cNvSpPr/>
          <p:nvPr/>
        </p:nvSpPr>
        <p:spPr>
          <a:xfrm>
            <a:off x="236520" y="333360"/>
            <a:ext cx="84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 nadzoru pedagogicznego 2019/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7" descr=""/>
          <p:cNvPicPr/>
          <p:nvPr/>
        </p:nvPicPr>
        <p:blipFill>
          <a:blip r:embed="rId3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11"/>
          <p:cNvSpPr/>
          <p:nvPr/>
        </p:nvSpPr>
        <p:spPr>
          <a:xfrm>
            <a:off x="236520" y="333360"/>
            <a:ext cx="843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lizowanie nadzoru pedagogicz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 dyrektor mus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 dyrektor moż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36" name="Dymek myśli: chmurka 1"/>
          <p:cNvSpPr/>
          <p:nvPr/>
        </p:nvSpPr>
        <p:spPr>
          <a:xfrm>
            <a:off x="4788000" y="836640"/>
            <a:ext cx="360036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ealizować zadania zapisane w rozporządzen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ymek myśli: chmurka 4"/>
          <p:cNvSpPr/>
          <p:nvPr/>
        </p:nvSpPr>
        <p:spPr>
          <a:xfrm>
            <a:off x="1763640" y="2781360"/>
            <a:ext cx="3600360" cy="1511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ślić zadania na dany rok tak, by to było przydatne w danej szk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ymek myśli: chmurka 5"/>
          <p:cNvSpPr/>
          <p:nvPr/>
        </p:nvSpPr>
        <p:spPr>
          <a:xfrm>
            <a:off x="3132000" y="2924280"/>
            <a:ext cx="410400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ować tak, by czuć się z tym bezpiecznie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ymek myśli: chmurka 6"/>
          <p:cNvSpPr/>
          <p:nvPr/>
        </p:nvSpPr>
        <p:spPr>
          <a:xfrm>
            <a:off x="5197320" y="2871720"/>
            <a:ext cx="3191040" cy="163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enić plan, gdy jest taka potrzeb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11"/>
          <p:cNvSpPr/>
          <p:nvPr/>
        </p:nvSpPr>
        <p:spPr>
          <a:xfrm>
            <a:off x="539640" y="84240"/>
            <a:ext cx="81360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kumentowanie nadzoru pedagogicz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kusz obserwacji le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rkusz obserwacji wypełni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arta obserwacji zadania statut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kusz monitorowania_Niepodleg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rkusz monitorowania_Pedag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"/>
          <p:cNvPicPr/>
          <p:nvPr/>
        </p:nvPicPr>
        <p:blipFill>
          <a:blip r:embed="rId7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ole tekstowe 11"/>
          <p:cNvSpPr/>
          <p:nvPr/>
        </p:nvSpPr>
        <p:spPr>
          <a:xfrm>
            <a:off x="0" y="842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ki z nadzoru i co dalej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971640" y="148428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zporządzenie w sprawie nadzoru pedagog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24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rektor szkoły lub placówki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terminie do dnia 31 sierpnia, przedstawia na zebraniu rady pedagogicz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a w przypadku szkoły lub placówki, w której nie tworzy się rady pedagogicznej - na zebraniu z udziałem nauczycieli i osób niebędących nauczycielami, które realizują zadania statutowe szkoły lub placówki, wyniki i wnioski ze sprawowanego nadzoru pedagogicz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PO Art. 6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. Dyrektor szkoły lub placówki przedstawia radzie pedagogicznej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rzadziej niż dwa razy w roku szkolnym, ogólne wniosk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nikające ze sprawowanego nadzoru pedagogicznego oraz informacje o działalności szkoł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ole tekstowe 11"/>
          <p:cNvSpPr/>
          <p:nvPr/>
        </p:nvSpPr>
        <p:spPr>
          <a:xfrm>
            <a:off x="0" y="842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nioski z nadzoru i co dalej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1"/>
          <p:cNvSpPr/>
          <p:nvPr/>
        </p:nvSpPr>
        <p:spPr>
          <a:xfrm>
            <a:off x="971640" y="2205000"/>
            <a:ext cx="73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PO Art. 70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 Do kompetencji stanowiących rady pedagogicznej należ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 ustalanie sposobu wykorzystania wyników nadzoru pedagogicznego, w tym sprawowanego nad szkołą lub placówką przez organ sprawujący nadzór pedagogiczny, w celu doskonalenia pracy szkoły 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chwała – przykł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osób wykorzystania wyników nadzoru - przykł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11"/>
          <p:cNvSpPr/>
          <p:nvPr/>
        </p:nvSpPr>
        <p:spPr>
          <a:xfrm>
            <a:off x="539640" y="84240"/>
            <a:ext cx="806472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ór pedagogiczny w szkole a ocena pracy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dokumentacja z nadzoru (arkusze obserwacji, arkusze kontroli itp.) ma znaczenie przy ustalaniu oceny pra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sporządzacie notatki służbo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amochwałki, karty samooceny…potrzeb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kumentacja nadzoru pedagogicznego a zastrzeżenia do projektu oceny lub odwołanie od ocen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162" name="Dymek mowy: prostokąt z zaokrąglonymi rogami 1"/>
          <p:cNvSpPr/>
          <p:nvPr/>
        </p:nvSpPr>
        <p:spPr>
          <a:xfrm>
            <a:off x="2700360" y="2637000"/>
            <a:ext cx="5759280" cy="122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wołanie od oceny pracy nauczyciela …Dyrektor szkoły dołącz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semne odniesienie się do zarzutów podniesionych w odwołani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11"/>
          <p:cNvSpPr/>
          <p:nvPr/>
        </p:nvSpPr>
        <p:spPr>
          <a:xfrm>
            <a:off x="3240" y="2846520"/>
            <a:ext cx="896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ADZÓR PEDAGOGICZNY W PRAKTYCE DYREKTORA PUBLICZNEJ SZKOŁY PODSTAW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zabela Leśniew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oskko.edu.pl/kong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az 2" descr="Obraz zawierający góra, budynek, zewnętrzne, jednostka pływająca&#10;&#10;Opis wygenerowany automatycznie"/>
          <p:cNvPicPr/>
          <p:nvPr/>
        </p:nvPicPr>
        <p:blipFill>
          <a:blip r:embed="rId1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ole tekstowe 11"/>
          <p:cNvSpPr/>
          <p:nvPr/>
        </p:nvSpPr>
        <p:spPr>
          <a:xfrm>
            <a:off x="539640" y="84240"/>
            <a:ext cx="8064720" cy="68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ór pedagogiczny w szkole a ocena pracy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Rozporządzenie w sprawie trybu dokonywania oceny pracy nauczyciel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§ 4. 2. Karta oceny pracy zawi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) imię (imiona) i nazwisko nauczyci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) datę i miejsce urodze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) miejsce zatrudnienia i zajmowane stanowisk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) staż pracy pedagogiczn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) stopień awansu zawod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) wykształcen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) datę dokonania ostatniej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8) stwierdzenie uogólniające, o którym mowa w art. 6a ust. 4 Karty Nauczyci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9) uzasadnienie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0) datę dokonania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1) podpis osoby dokonującej oceny prac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2) pouczenie o terminie i trybie wniesienia odwołania od oceny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11"/>
          <p:cNvSpPr/>
          <p:nvPr/>
        </p:nvSpPr>
        <p:spPr>
          <a:xfrm>
            <a:off x="539640" y="84240"/>
            <a:ext cx="8064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ór pedagogiczny w szkole a ocena pracy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rta oceny - przykł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11"/>
          <p:cNvSpPr/>
          <p:nvPr/>
        </p:nvSpPr>
        <p:spPr>
          <a:xfrm>
            <a:off x="684360" y="19303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ytania, refleksj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www.oskko.edu.pl/kongres/materialy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7" descr=""/>
          <p:cNvPicPr/>
          <p:nvPr/>
        </p:nvPicPr>
        <p:blipFill>
          <a:blip r:embed="rId1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ole tekstowe 11"/>
          <p:cNvSpPr/>
          <p:nvPr/>
        </p:nvSpPr>
        <p:spPr>
          <a:xfrm>
            <a:off x="90360" y="2492280"/>
            <a:ext cx="89632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zabela Leśniew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zabela.lesniewska@oskko.edu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ład wygłoszony podczas XIII Kongresu Zarządzania Oświatą.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teriały, w wersji do pobrania, znajdą się na stronie Kongresu: www.oskko.edu.pl/kongres/ - w zakładce „Materiał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OSKKO wyraża zgodę na wykorzystywanie tej prezentacji do celów edukacyjnych, lecz pod warunkiem nieingerowania w tekst oraz pozostawienia nazwy kongresu, organizatora i autora materiał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az 2" descr="Obraz zawierający góra, budynek, zewnętrzne, jednostka pływająca&#10;&#10;Opis wygenerowany automatycznie"/>
          <p:cNvPicPr/>
          <p:nvPr/>
        </p:nvPicPr>
        <p:blipFill>
          <a:blip r:embed="rId1"/>
          <a:stretch/>
        </p:blipFill>
        <p:spPr>
          <a:xfrm>
            <a:off x="0" y="0"/>
            <a:ext cx="914400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03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11"/>
          <p:cNvSpPr/>
          <p:nvPr/>
        </p:nvSpPr>
        <p:spPr>
          <a:xfrm>
            <a:off x="0" y="842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stawy praw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2" name="Prostokąt 1"/>
          <p:cNvSpPr/>
          <p:nvPr/>
        </p:nvSpPr>
        <p:spPr>
          <a:xfrm>
            <a:off x="468360" y="1052640"/>
            <a:ext cx="828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WA z dnia 14 grudnia 2016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awo oświatow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9 r. poz. 1148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WA z dnia 26 stycznia 1982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arta Nauczyciel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8 r. poz. 967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ORZĄDZENIE MINISTRA EDUKACJI NARODOWEJ z dnia 25 sierpnia 2017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sprawie nadzoru pedagogiczneg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7 r. poz. 1658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ORZĄDZENIE MINISTRA EDUKACJI NARODOWEJ z dnia 11 sierpnia 2017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sprawie wymagań wobec szkół i placówek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Dz. U. z 2017 r. poz. 1611 ze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ORZĄDZENIE MINISTRA EDUKACJI NARODOWEJ z dnia 19 sierpnia 2019 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sprawie szczegółowych kryteriów i trybu dokonywania oceny pracy nauczyciel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zakresu informacji zawartych w karcie oceny pracy, składu i sposobu powoływania zespołu oceniającego oraz trybu postępowania odwoławczego (Dz. U. poz. 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11"/>
          <p:cNvSpPr/>
          <p:nvPr/>
        </p:nvSpPr>
        <p:spPr>
          <a:xfrm>
            <a:off x="0" y="842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gadn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1"/>
          <p:cNvSpPr/>
          <p:nvPr/>
        </p:nvSpPr>
        <p:spPr>
          <a:xfrm>
            <a:off x="900000" y="1859040"/>
            <a:ext cx="78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bowiązujące formy nadzoru pedagog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dania dyrek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 nadzoru pedagogicznego a kierunki polityki oświatowej państwa i wyniki i wnioski z nadzoru pedagogicz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a pedagogiczna a nadzór pedagogiczny w sz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ktyka nadzoru – przykłady karty obserwacji lekcji, arkusza monitoringu, wyników i wniosków z nadz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owanie nadzoru a ocena pracy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74" name="Prostokąt 1"/>
          <p:cNvSpPr/>
          <p:nvPr/>
        </p:nvSpPr>
        <p:spPr>
          <a:xfrm>
            <a:off x="755640" y="185904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2. 1. Dyrektor szkoły lub placówki we współpracy z innymi nauczycielami zajmującymi stanowiska kierownicze, w ramach sprawowanego nadzoru pedagogiczn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prowadza ewaluację wewnętrzną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wykorzystuje jej wyniki do doskonalenia jakości pracy szkoły lub placów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roluje przestrzeganie przez nauczycieli przepisów pra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tyczących działalności dydaktycznej, wychowawczej i opiekuńczej oraz innej działalności statutowej szkoły lub placówk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80" name="Prostokąt 1"/>
          <p:cNvSpPr/>
          <p:nvPr/>
        </p:nvSpPr>
        <p:spPr>
          <a:xfrm>
            <a:off x="755640" y="185904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2. 1. Dyrektor szkoły lub placówki we współpracy z innymi nauczycielami zajmującymi stanowiska kierownicze, w ramach sprawowanego nadzoru pedagogiczn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pomaga nauczycieli w realizacji ich zadań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 szczególności prz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diagnozę pracy szkoł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placówk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planowanie działań rozwojow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 tym motywowanie nauczycieli do doskonalenia zawodow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prowadzenie działań rozwojow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 tym organizowanie szkoleń i nar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onitoruje pracę szkoł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86" name="Prostokąt 1"/>
          <p:cNvSpPr/>
          <p:nvPr/>
        </p:nvSpPr>
        <p:spPr>
          <a:xfrm>
            <a:off x="755640" y="1859040"/>
            <a:ext cx="806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§ 22. 2. Ewaluację wewnętrzną przeprowadza się w odniesieniu d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gadnień uznanych w szkole lub placówce za istotn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jej działal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. W celu realizacji zadań, o których mowa w ust. 1, dyrektor szkoły lub placówki we współpracy z nauczycielami, o których mowa w ust. 1,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analizuje dokumentację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biegu naucz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obserwuje prowadzone przez nauczycieli zajęc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daktyczne, wychowawcze i opiekuńcze oraz inne zajęcia i czynności wynikające z działalności statutowej szkoły lub placów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ymek mowy: prostokąt z zaokrąglonymi rogami 3"/>
          <p:cNvSpPr/>
          <p:nvPr/>
        </p:nvSpPr>
        <p:spPr>
          <a:xfrm>
            <a:off x="1619280" y="260280"/>
            <a:ext cx="6985080" cy="1944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gadnieni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stot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czyli jak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kole coś „szwankuje”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zkole coś świetnie działa i może warto receptę na to skopiować do innych przedsięwzięć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ymagania państw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Prostokąt 1"/>
          <p:cNvSpPr/>
          <p:nvPr/>
        </p:nvSpPr>
        <p:spPr>
          <a:xfrm>
            <a:off x="755640" y="18590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23. 1. Dyrektor szkoły lub placówki opracowuje na każdy rok szkolny plan nadzoru pedagogicznego, który przedstawia na zebraniu rady pedagogicz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a w przypadku szkoły lub placówki, w której nie tworzy się rady pedagogicznej - na zebraniu z udziałem nauczycieli i osób niebędących nauczycielami, które realizują zadania statutowe szkoły lub placówki, w terminie do dnia 15 września roku szkolnego, którego dotyczy p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ymek myśli: chmurka 4"/>
          <p:cNvSpPr/>
          <p:nvPr/>
        </p:nvSpPr>
        <p:spPr>
          <a:xfrm>
            <a:off x="3419640" y="404640"/>
            <a:ext cx="4824360" cy="216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a pedagogicz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 opiniuje/nie zatwierdz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u nadzoru pedagogiczneg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3"/>
          <p:cNvSpPr/>
          <p:nvPr/>
        </p:nvSpPr>
        <p:spPr>
          <a:xfrm>
            <a:off x="5364000" y="5732640"/>
            <a:ext cx="3600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stawa prawna do planu nadzoru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6520" y="2871720"/>
            <a:ext cx="20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36520" y="2871720"/>
            <a:ext cx="206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1"/>
          <p:cNvSpPr/>
          <p:nvPr/>
        </p:nvSpPr>
        <p:spPr>
          <a:xfrm>
            <a:off x="0" y="842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orządzenie MEN z dnia 25 sierpnia 2017 r. w spraw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oru pedagogi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ole tekstowe 2"/>
          <p:cNvSpPr/>
          <p:nvPr/>
        </p:nvSpPr>
        <p:spPr>
          <a:xfrm>
            <a:off x="1187280" y="6599160"/>
            <a:ext cx="788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Materiały XIV Kongresu Zarządzania Oświatą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kko.edu.pl/kongres/materialy/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az 7" descr=""/>
          <p:cNvPicPr/>
          <p:nvPr/>
        </p:nvPicPr>
        <p:blipFill>
          <a:blip r:embed="rId2"/>
          <a:stretch/>
        </p:blipFill>
        <p:spPr>
          <a:xfrm>
            <a:off x="1955880" y="6620040"/>
            <a:ext cx="647640" cy="218880"/>
          </a:xfrm>
          <a:prstGeom prst="rect">
            <a:avLst/>
          </a:prstGeom>
          <a:ln w="0">
            <a:noFill/>
          </a:ln>
        </p:spPr>
      </p:pic>
      <p:pic>
        <p:nvPicPr>
          <p:cNvPr id="101" name="Prostokąt 1" descr=""/>
          <p:cNvPicPr/>
          <p:nvPr/>
        </p:nvPicPr>
        <p:blipFill>
          <a:blip r:embed="rId3"/>
          <a:stretch/>
        </p:blipFill>
        <p:spPr>
          <a:xfrm>
            <a:off x="701640" y="1859040"/>
            <a:ext cx="8174160" cy="2384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1:38:40Z</dcterms:created>
  <dc:creator>Marek</dc:creator>
  <dc:description/>
  <dc:language>en-US</dc:language>
  <cp:lastModifiedBy>Iza Leśniewska</cp:lastModifiedBy>
  <dcterms:modified xsi:type="dcterms:W3CDTF">2019-09-30T08:58:15Z</dcterms:modified>
  <cp:revision>171</cp:revision>
  <dc:subject/>
  <dc:title>Slajd 1</dc:title>
</cp:coreProperties>
</file>